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8DC-F7CE-4F48-A07D-6CA67B54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53A-8ED6-471D-B763-E73E7AD3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8F8-8869-4538-9C17-646F4C7E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B56-DA0C-4F85-B7BA-E4B1253E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A72-04CD-4351-9F11-24CFFD1C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509-E20C-4235-B3E3-1BDD545C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81A-0099-4257-9A9C-9A011D6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C51-C0BA-45A9-B07D-63293A33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332-2164-4C52-BE3B-1FF60FD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D8C-F2AD-45B6-85E4-F191606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73F-73B5-4F76-A52A-6DA780F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DC9-E084-4EEE-B013-D143C31E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9EFE-5BEC-4565-BAE4-08F79D893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today.msnbc.msn.com/id/40853908/ns/today-entertainment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kWLCXZjSF0&amp;feature=relate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mynews24.net/wp-content/uploads/2011/01/teen-mom-2..jpg"/>
          <p:cNvPicPr/>
          <p:nvPr/>
        </p:nvPicPr>
        <p:blipFill>
          <a:blip r:embed="rId1"/>
          <a:stretch/>
        </p:blipFill>
        <p:spPr>
          <a:xfrm>
            <a:off x="1676520" y="1550880"/>
            <a:ext cx="60292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6480" y="390600"/>
            <a:ext cx="9124920" cy="1554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-28800" y="6172200"/>
            <a:ext cx="94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81000" y="82872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jourd’hui je vai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l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es fausses réalités dans l’émission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élévision Teen Mom. J’ai observés que l’émission des problé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ers exagére beauc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 flipH="1">
            <a:off x="45360" y="641664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 rot="5400000">
            <a:off x="4769640" y="3275640"/>
            <a:ext cx="78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zuri1.com/wp-content/uploads/amber-portwood-teen-mom__opt__opt1__oPt.jpg"/>
          <p:cNvPicPr/>
          <p:nvPr/>
        </p:nvPicPr>
        <p:blipFill>
          <a:blip r:embed="rId1"/>
          <a:stretch/>
        </p:blipFill>
        <p:spPr>
          <a:xfrm>
            <a:off x="5715000" y="429264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6" descr=""/>
          <p:cNvPicPr/>
          <p:nvPr/>
        </p:nvPicPr>
        <p:blipFill>
          <a:blip r:embed="rId2"/>
          <a:stretch/>
        </p:blipFill>
        <p:spPr>
          <a:xfrm>
            <a:off x="-914400" y="5931000"/>
            <a:ext cx="7753320" cy="1042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990720" y="2362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iva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today.msnbc.msn.com/id/40853908/ns/today-entertainment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mber Portwood gagné $280,000 pour un anné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990720" y="380880"/>
            <a:ext cx="708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si, J’ai observes que l’émission furer exagére beaucoup.  Furer enter Gary et Amb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t présente souv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'est la violence domestique, si elle était réelle de la loi s'en mêl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232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ary et Ambers Lutt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-180360" y="3809880"/>
            <a:ext cx="96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waveish.com/iwave/images/24/o-amber-portwood-encouraged-to-fight-gary-shirley-on-teen-mom-by-mtv-report-claims.jpg"/>
          <p:cNvPicPr/>
          <p:nvPr/>
        </p:nvPicPr>
        <p:blipFill>
          <a:blip r:embed="rId2"/>
          <a:stretch/>
        </p:blipFill>
        <p:spPr>
          <a:xfrm>
            <a:off x="1865160" y="2590920"/>
            <a:ext cx="4886640" cy="2762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 rot="5400000">
            <a:off x="4353840" y="2289240"/>
            <a:ext cx="92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85800" y="9907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si, J’ai observes que l’émission l’education exagére beaucoup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lon la loi, vous devez être à l'école, sauf si vous êtes diplômé ou ayant atteint l'âge de dix-huit ; mais dans l’émission Teen Mom, adolescents abandonnent l'école dès l'âge de se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-250920" y="5486400"/>
            <a:ext cx="108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pooporchocolateblogs.com/wp-content/uploads/2010/09/mtv-teen-mom.jpg"/>
          <p:cNvPicPr/>
          <p:nvPr/>
        </p:nvPicPr>
        <p:blipFill>
          <a:blip r:embed="rId1"/>
          <a:stretch/>
        </p:blipFill>
        <p:spPr>
          <a:xfrm>
            <a:off x="2039760" y="3200400"/>
            <a:ext cx="5064480" cy="3257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 rot="5400000">
            <a:off x="-4389480" y="3612240"/>
            <a:ext cx="97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28880" y="22334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juste tres exemples de fausse réalités dans l’émission de télévision Teen Mom.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sais qu'il ya beaucoup plus, ce ne sont que quelques exe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1.bp.blogspot.com/_XmYwA_GdPeo/TM6Fs_TeGKI/AAAAAAAAL2A/ko87nu-v9sg/s1600/teen-mom03.jpg"/>
          <p:cNvPicPr/>
          <p:nvPr/>
        </p:nvPicPr>
        <p:blipFill>
          <a:blip r:embed="rId1"/>
          <a:stretch/>
        </p:blipFill>
        <p:spPr>
          <a:xfrm>
            <a:off x="0" y="531036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ages.buddytv.com/articles/teen-mom.jpg"/>
          <p:cNvPicPr/>
          <p:nvPr/>
        </p:nvPicPr>
        <p:blipFill>
          <a:blip r:embed="rId2"/>
          <a:stretch/>
        </p:blipFill>
        <p:spPr>
          <a:xfrm>
            <a:off x="2022480" y="5310360"/>
            <a:ext cx="2244600" cy="15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christina718.files.wordpress.com/2010/10/teen-mom.jpg"/>
          <p:cNvPicPr/>
          <p:nvPr/>
        </p:nvPicPr>
        <p:blipFill>
          <a:blip r:embed="rId3"/>
          <a:stretch/>
        </p:blipFill>
        <p:spPr>
          <a:xfrm>
            <a:off x="4267080" y="5310360"/>
            <a:ext cx="2405160" cy="15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www.fancast.com/blogs/files/2010/11/teen-mom-amber2.jpg"/>
          <p:cNvPicPr/>
          <p:nvPr/>
        </p:nvPicPr>
        <p:blipFill>
          <a:blip r:embed="rId4"/>
          <a:stretch/>
        </p:blipFill>
        <p:spPr>
          <a:xfrm>
            <a:off x="6672240" y="5310360"/>
            <a:ext cx="2471760" cy="159516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4" descr=""/>
          <p:cNvPicPr/>
          <p:nvPr/>
        </p:nvPicPr>
        <p:blipFill>
          <a:blip r:embed="rId5"/>
          <a:stretch/>
        </p:blipFill>
        <p:spPr>
          <a:xfrm>
            <a:off x="1828800" y="695160"/>
            <a:ext cx="529740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5:59:14Z</dcterms:created>
  <dc:creator>A satisfied Microsoft Office User</dc:creator>
  <dc:description/>
  <dc:language>en-US</dc:language>
  <cp:lastModifiedBy>A satisfied Microsoft Office User</cp:lastModifiedBy>
  <dcterms:modified xsi:type="dcterms:W3CDTF">2011-02-25T16:54:43Z</dcterms:modified>
  <cp:revision>16</cp:revision>
  <dc:subject/>
  <dc:title>PowerPoint Presentation</dc:title>
</cp:coreProperties>
</file>